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745-4727-4779-A77F-78AF5F47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0E9-69DB-4865-AFBA-18AB8651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86E-C1AE-4FB3-B972-0201DB3C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B19-DDA0-475C-A40E-3EDD99BB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C5B-5B97-4E24-8BB0-88FC3ECE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8D0-A6C5-43EC-94B1-17BBA193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142-C9B8-4001-82EC-6B7D1A28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AAB-DCB0-45FF-8177-EBEA3569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F7B5-A0A3-49CC-9C95-A16ABAE8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153-7BCD-42A5-84EE-55A8974B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C53-DA4A-454F-997E-E20ACF3C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ECF-4D8B-4B69-81CA-E331C0AE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1EB6-F704-4BDF-BA15-52F31921FB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675640" y="486900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762120" y="1371600"/>
            <a:ext cx="792468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file contains the Plenary for this chapter in </a:t>
            </a:r>
            <a:br>
              <a:rPr sz="2000"/>
            </a:b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Physics For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the PowerPoint of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how well they have understood each section of wor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2120" y="5715000"/>
            <a:ext cx="62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35 – Magnetic Effect of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621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5 : Magnetic Effect of Curren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1268280"/>
            <a:ext cx="7488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trength of an electromagnet depends upon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________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________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________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________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a d.c. motor, the part with the brushes and the ‘split ring’ is call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work out which way a wire will move in a magnetic field, we us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hand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7621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5 : Magnetic Effect of Curren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762120" y="1268280"/>
            <a:ext cx="7488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trength of an electromagnet depends upon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________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________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________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________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a d.c. motor, the part with the brushes and the ‘split ring’ is call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work out which way a wire will move in a magnetic field, we us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hand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059280" y="381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181480" y="4221000"/>
            <a:ext cx="2880000" cy="4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ommut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219320" y="5661000"/>
            <a:ext cx="43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eming’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Lef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hand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2590920" y="1752480"/>
            <a:ext cx="396216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666880" y="1657440"/>
            <a:ext cx="48243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urrent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mber of ‘turns’ on the coil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aving an iron core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rea of the c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5724360" y="1628640"/>
            <a:ext cx="0" cy="4608720"/>
          </a:xfrm>
          <a:prstGeom prst="line">
            <a:avLst/>
          </a:prstGeom>
          <a:ln w="228600">
            <a:solidFill>
              <a:srgbClr val="c0c0c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8580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5 : Magnetic Effect of Curren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1052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udy the diagram of an electric bell, then put the statements into the correct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ElectricBellAnimation"/>
          <p:cNvPicPr/>
          <p:nvPr/>
        </p:nvPicPr>
        <p:blipFill>
          <a:blip r:embed="rId1"/>
          <a:stretch/>
        </p:blipFill>
        <p:spPr>
          <a:xfrm>
            <a:off x="611280" y="1484280"/>
            <a:ext cx="3595680" cy="4897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067280" y="5638680"/>
            <a:ext cx="424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ent flows through electromag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067280" y="1700280"/>
            <a:ext cx="424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gnetic field p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067280" y="2824200"/>
            <a:ext cx="424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gnetic field attracts arm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067280" y="3949560"/>
            <a:ext cx="45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mature moves towards electromag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067280" y="3387600"/>
            <a:ext cx="45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mmer strikes gong, circuit is br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067280" y="4513320"/>
            <a:ext cx="45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mature no longer attracted to c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4067280" y="5075280"/>
            <a:ext cx="45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mature springs 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4067280" y="2262240"/>
            <a:ext cx="45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rcuit is complete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5724360" y="1628640"/>
            <a:ext cx="0" cy="4608720"/>
          </a:xfrm>
          <a:prstGeom prst="line">
            <a:avLst/>
          </a:prstGeom>
          <a:ln w="228600">
            <a:solidFill>
              <a:srgbClr val="c0c0c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8580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5 : Magnetic Effect of Curren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0" y="1052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udy the diagram of an electric bell, then put the statements into the correct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ElectricBellAnimation"/>
          <p:cNvPicPr/>
          <p:nvPr/>
        </p:nvPicPr>
        <p:blipFill>
          <a:blip r:embed="rId1"/>
          <a:stretch/>
        </p:blipFill>
        <p:spPr>
          <a:xfrm>
            <a:off x="611280" y="1484280"/>
            <a:ext cx="3595680" cy="4897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3995640" y="1700280"/>
            <a:ext cx="424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ent flows through electromag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995640" y="2208240"/>
            <a:ext cx="424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gnetic field p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995640" y="2716200"/>
            <a:ext cx="424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gnetic field attracts arm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995640" y="3224160"/>
            <a:ext cx="45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mature moves towards electromag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995640" y="3732120"/>
            <a:ext cx="45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mmer strikes gong, circuit is br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995640" y="4240080"/>
            <a:ext cx="45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mature no longer attracted to c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995640" y="4748040"/>
            <a:ext cx="45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mature springs 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995640" y="5257800"/>
            <a:ext cx="45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rcuit is complete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059280" y="381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5140440" y="5676840"/>
            <a:ext cx="2251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so o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Sue Holt</cp:lastModifiedBy>
  <dcterms:modified xsi:type="dcterms:W3CDTF">2017-05-01T14:30:21Z</dcterms:modified>
  <cp:revision>53</cp:revision>
  <dc:subject>Physics for You Support File</dc:subject>
  <dc:title>Physics for You</dc:title>
</cp:coreProperties>
</file>