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847-D335-49D3-B203-9BAB86BE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F5A-61E3-4B09-86F4-1389E32C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590-1DEB-4645-9423-A21F033C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BDE-B48B-470B-A11F-69EFB7E3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DEF-1AE8-4A4B-BF89-579ECCEA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7A6-FD89-4DFE-BBC0-2ECEA50B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1B2-7F5E-4D18-9C21-7322F9F2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F95-00B2-4B10-9A68-41E2A701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404-B239-46F0-98C1-6D47F9E4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2E5-986C-4AE0-A6E8-8241413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DF7-9CDC-4133-83F8-6540B351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93B-74EB-4A71-A980-9AAC73A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8864-3149-4157-8739-E549D8FA44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8645400" y="49118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pter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3"/>
          <p:cNvSpPr/>
          <p:nvPr/>
        </p:nvSpPr>
        <p:spPr>
          <a:xfrm>
            <a:off x="628560" y="380880"/>
            <a:ext cx="80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5 :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Magnetic Effect of a Curr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628560" y="1676520"/>
            <a:ext cx="7994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a current produces a 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ield shapes for a wire, and a c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e use electromagnets: electric bell, door lock, relay, earphone, 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84428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a force acts on a wire carrying  current in 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the size of the forc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ming’s Left-Hand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 d.c. electric motor work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 names of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5 :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Motor Effect 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4000" spc="-1" strike="noStrike">
                <a:solidFill>
                  <a:srgbClr val="000000"/>
                </a:solidFill>
                <a:latin typeface="Swis721 Md BT"/>
              </a:rPr>
              <a:t>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5-01T17:09:25Z</dcterms:modified>
  <cp:revision>28</cp:revision>
  <dc:subject>Physics for You Support File</dc:subject>
  <dc:title>Physics for You</dc:title>
</cp:coreProperties>
</file>